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CA0F-D4D5-4E5B-B0ED-F77334687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A64F-12AC-4A4E-9107-5968C571A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418-C2B5-4791-B4C7-2A28A25F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88F-F32F-4ACC-98C1-98F8EB01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0A5-E4F3-4E14-AF92-CFD4AA0C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FC2-76D4-43EC-9A74-FB499FD1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036-7F08-4052-8487-D333F23C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4C7-4EAA-4C7F-AD50-77A510C9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723-C301-4E22-91CD-2518CB44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1D9-FE4A-4038-9B79-BCA55891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9AB-BBF7-430D-BF45-C08A3391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97F-9010-4AE1-8982-6AB65C5B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21A-B993-4854-BEEB-0A2EFFB4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13C-625E-420E-9DE1-D574AEA1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9A01-C96B-4CF6-A9C1-27B065800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tephanie Fabr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tephanie Fabriz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tephanie Fabriz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tephanie Fabri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tephanie Fabriz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22860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22860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228600" y="5562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495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76320" y="5334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8600" y="3429000"/>
            <a:ext cx="16765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Stephani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o vivo en new york city. Yo tengo catorce años. Tengo 3 hermanos. Soy feliz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ttan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248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0880" y="5334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962520"/>
            <a:ext cx="5410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sotras estamos aburridas. Tu eres muy alta. Trabajamos mañana. Mucho gusto! ¿Tú quieres helado mañan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 horas ha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00400"/>
            <a:ext cx="44956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! Estoy cansada! La escuela es difícil! ¿Dónde estas tú mañan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pero es muy bonita! ¿Es ella divertid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45 minutos hac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45720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ritt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! Yo estoy muy ocupada! ¿Cómo están hermanos? ¿Enfermos? Mis perros son muy grand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      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sta : Comentario:      23 minutos ha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95480" y="4495680"/>
            <a:ext cx="6019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!¿ Tu foto es nueva? Mi papa trae yo a tu casa mañana! Tengo que preguntarle a mi m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1 horas ha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95480" y="5181480"/>
            <a:ext cx="472464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s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uestras prueba es mañana! ¿Estas loca? Nuestra mente para dormir! No puedo ir m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Tú tienes mi libr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2 horas ha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971800" y="6019920"/>
            <a:ext cx="60199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 noches! Nosotras tenemos que espera para la gemelas! ¿Cuál casa? ¿Por qué vamos? Chao! Hasta luego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3 horas hace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dias! Como estas? Puedes venir a 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992520" y="624852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tim"/>
          <p:cNvPicPr/>
          <p:nvPr/>
        </p:nvPicPr>
        <p:blipFill>
          <a:blip r:embed="rId1"/>
          <a:stretch/>
        </p:blipFill>
        <p:spPr>
          <a:xfrm>
            <a:off x="1981080" y="32004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1" descr="awha"/>
          <p:cNvPicPr/>
          <p:nvPr/>
        </p:nvPicPr>
        <p:blipFill>
          <a:blip r:embed="rId2"/>
          <a:stretch/>
        </p:blipFill>
        <p:spPr>
          <a:xfrm>
            <a:off x="2057400" y="5943600"/>
            <a:ext cx="609480" cy="58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2" descr="Geraldine and I"/>
          <p:cNvPicPr/>
          <p:nvPr/>
        </p:nvPicPr>
        <p:blipFill>
          <a:blip r:embed="rId3"/>
          <a:stretch/>
        </p:blipFill>
        <p:spPr>
          <a:xfrm>
            <a:off x="228600" y="56386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3" descr="best friends"/>
          <p:cNvPicPr/>
          <p:nvPr/>
        </p:nvPicPr>
        <p:blipFill>
          <a:blip r:embed="rId4"/>
          <a:stretch/>
        </p:blipFill>
        <p:spPr>
          <a:xfrm>
            <a:off x="1981080" y="2514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4" descr="best friends"/>
          <p:cNvPicPr/>
          <p:nvPr/>
        </p:nvPicPr>
        <p:blipFill>
          <a:blip r:embed="rId5"/>
          <a:stretch/>
        </p:blipFill>
        <p:spPr>
          <a:xfrm>
            <a:off x="762120" y="48769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Amina"/>
          <p:cNvPicPr/>
          <p:nvPr/>
        </p:nvPicPr>
        <p:blipFill>
          <a:blip r:embed="rId6"/>
          <a:stretch/>
        </p:blipFill>
        <p:spPr>
          <a:xfrm>
            <a:off x="2057400" y="3886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6" descr="Amina"/>
          <p:cNvPicPr/>
          <p:nvPr/>
        </p:nvPicPr>
        <p:blipFill>
          <a:blip r:embed="rId7"/>
          <a:stretch/>
        </p:blipFill>
        <p:spPr>
          <a:xfrm>
            <a:off x="1447920" y="495288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" descr="jenni"/>
          <p:cNvPicPr/>
          <p:nvPr/>
        </p:nvPicPr>
        <p:blipFill>
          <a:blip r:embed="rId8"/>
          <a:stretch/>
        </p:blipFill>
        <p:spPr>
          <a:xfrm>
            <a:off x="2057400" y="44956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8" descr="jenni"/>
          <p:cNvPicPr/>
          <p:nvPr/>
        </p:nvPicPr>
        <p:blipFill>
          <a:blip r:embed="rId9"/>
          <a:stretch/>
        </p:blipFill>
        <p:spPr>
          <a:xfrm>
            <a:off x="152280" y="48769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9" descr="tumblr_lwu6gcLtHp1qfgnkqo1_500"/>
          <p:cNvPicPr/>
          <p:nvPr/>
        </p:nvPicPr>
        <p:blipFill>
          <a:blip r:embed="rId10"/>
          <a:stretch/>
        </p:blipFill>
        <p:spPr>
          <a:xfrm>
            <a:off x="2057400" y="5181480"/>
            <a:ext cx="787320" cy="525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0" descr="tumblr_lwu6gcLtHp1qfgnkqo1_500"/>
          <p:cNvPicPr/>
          <p:nvPr/>
        </p:nvPicPr>
        <p:blipFill>
          <a:blip r:embed="rId11"/>
          <a:stretch/>
        </p:blipFill>
        <p:spPr>
          <a:xfrm>
            <a:off x="914400" y="5715000"/>
            <a:ext cx="685800" cy="54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1" descr="757"/>
          <p:cNvPicPr/>
          <p:nvPr/>
        </p:nvPicPr>
        <p:blipFill>
          <a:blip r:embed="rId12"/>
          <a:stretch/>
        </p:blipFill>
        <p:spPr>
          <a:xfrm>
            <a:off x="533520" y="380880"/>
            <a:ext cx="7426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27:59Z</dcterms:modified>
  <cp:revision>116</cp:revision>
  <dc:subject/>
  <dc:title>Profile</dc:title>
</cp:coreProperties>
</file>